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3A6-63A8-4EEC-BBE5-AA6911DFD7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Gebäude- und Wohnungsstatistik (GWS)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Katrin Imwinkelr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1989000"/>
            <a:ext cx="752328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Gebäude- und Wohnungsstatistik (GWS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560" y="5660640"/>
            <a:ext cx="74293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atrin Imwinkel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lanung der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57360"/>
            <a:ext cx="71182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tand der Arbei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349360"/>
            <a:ext cx="7597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iloterhebung GWS mini 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Aufbau des Produktions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Snapshot GWR mit Stichtag 31.12.2008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Entwicklung des Einsetzungsverfahrens, inkl. Tes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Arial"/>
              <a:buChar char="-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tandardtabell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GWS mini 09 parallel zur Testphase V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95280" y="3213000"/>
            <a:ext cx="74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 - Disk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597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 Kontext der Gebäude- und Wohnungsstatistik (GW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inführung der Gebäude- und Wohnungsstatisti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efinitionen - Begrif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Kritische Erfolgsfaktoren der G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lanung der Diffu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tand der Arbei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ragen - Diskus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56000" y="4076640"/>
            <a:ext cx="576000" cy="320760"/>
          </a:xfrm>
          <a:prstGeom prst="rightArrow">
            <a:avLst>
              <a:gd name="adj1" fmla="val 50157"/>
              <a:gd name="adj2" fmla="val 684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32000" y="2276640"/>
            <a:ext cx="877680" cy="1663560"/>
            <a:chOff x="1332000" y="2276640"/>
            <a:chExt cx="877680" cy="16635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332000" y="2276640"/>
              <a:ext cx="877680" cy="12650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382400" y="3573360"/>
              <a:ext cx="79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66920" y="43639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WR (R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380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ur-Erhe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792200">
            <a:off x="2633760" y="2924280"/>
            <a:ext cx="569880" cy="320400"/>
          </a:xfrm>
          <a:prstGeom prst="rightArrow">
            <a:avLst>
              <a:gd name="adj1" fmla="val 50157"/>
              <a:gd name="adj2" fmla="val 6780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2920" y="4344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669900"/>
                </a:solidFill>
                <a:latin typeface="Arial"/>
              </a:rPr>
              <a:t>Produktions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4554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G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101280" y="3094200"/>
            <a:ext cx="539640" cy="4176720"/>
          </a:xfrm>
          <a:custGeom>
            <a:avLst/>
            <a:gdLst>
              <a:gd name="textAreaLeft" fmla="*/ 344880 w 539640"/>
              <a:gd name="textAreaRight" fmla="*/ 540000 w 53964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5473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rojekt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8120" y="3728880"/>
            <a:ext cx="569880" cy="320760"/>
          </a:xfrm>
          <a:prstGeom prst="rightArrow">
            <a:avLst>
              <a:gd name="adj1" fmla="val 50157"/>
              <a:gd name="adj2" fmla="val 677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282920" y="3032280"/>
            <a:ext cx="136872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81760" y="3112920"/>
            <a:ext cx="1435320" cy="129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8636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340000" y="2486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222200">
            <a:off x="2627280" y="5339880"/>
            <a:ext cx="569880" cy="320760"/>
          </a:xfrm>
          <a:prstGeom prst="rightArrow">
            <a:avLst>
              <a:gd name="adj1" fmla="val 50157"/>
              <a:gd name="adj2" fmla="val 6772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bäude- und Wohnungsstatistik </a:t>
            </a:r>
            <a:br>
              <a:rPr sz="28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bäude- und Wohnungsstatist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Jährliche Statistik über Bestand und Struktur der Gebäude und Wohnungen sowie der Wohnverhältnisse im Rahmen der Neukonzeption VZ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  <a:ea typeface="新細明體"/>
              </a:rPr>
              <a:t>Die GWS wertet jährlich die Registererhebung und die Strukturerhebung a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GWS wird schrittweise eingeführt (GWS mini, midi, max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chrittweise Einführung der GW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WS mini, midi, max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2205000"/>
          <a:ext cx="7777080" cy="38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777708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669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efinitionen - Begriff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44640"/>
            <a:ext cx="7669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rundgesamtheit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bäud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lle am 31.12. des Bezugsjahres in der Schwei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stehenden Gebäude mit Wohnnu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rundgesamtheit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ohnunge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lle am 31.12. des Bezugsjahres in der Schweiz bestehend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ohnungen, soweit diese über eine Kocheinrichtung verfü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Wohnverhältniss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Beschreibung der Nutzung von Wohnungen durch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rivathaushal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utput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44280"/>
            <a:ext cx="77407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afiken und Kar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ätze mit anonymisierten Einzel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atenlieferung an regionale Statistikäm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mentare zu wichtigen Aspekten des Wohnungswesens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08360" y="1628640"/>
            <a:ext cx="636480" cy="781200"/>
            <a:chOff x="3708360" y="1628640"/>
            <a:chExt cx="636480" cy="7812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708360" y="1628640"/>
              <a:ext cx="49212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852720" y="1844640"/>
              <a:ext cx="492120" cy="56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429080" y="1628640"/>
            <a:ext cx="603360" cy="806400"/>
            <a:chOff x="4429080" y="1628640"/>
            <a:chExt cx="603360" cy="80640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29080" y="1628640"/>
              <a:ext cx="4604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844640"/>
              <a:ext cx="460440" cy="59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284720" y="2749680"/>
            <a:ext cx="681120" cy="44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683240" y="2565360"/>
            <a:ext cx="680760" cy="4478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651640" y="2492280"/>
            <a:ext cx="1047600" cy="734760"/>
            <a:chOff x="5651640" y="2492280"/>
            <a:chExt cx="1047600" cy="73476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51640" y="2492280"/>
              <a:ext cx="68112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6012000" y="2707920"/>
              <a:ext cx="68724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7164360" y="3481560"/>
            <a:ext cx="873000" cy="955080"/>
            <a:chOff x="7164360" y="3481560"/>
            <a:chExt cx="873000" cy="955080"/>
          </a:xfrm>
        </p:grpSpPr>
        <p:pic>
          <p:nvPicPr>
            <p:cNvPr id="129" name="" descr=""/>
            <p:cNvPicPr/>
            <p:nvPr/>
          </p:nvPicPr>
          <p:blipFill>
            <a:blip r:embed="rId9"/>
            <a:stretch/>
          </p:blipFill>
          <p:spPr>
            <a:xfrm>
              <a:off x="7164360" y="3481560"/>
              <a:ext cx="638280" cy="8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0"/>
            <a:stretch/>
          </p:blipFill>
          <p:spPr>
            <a:xfrm>
              <a:off x="7380360" y="3625560"/>
              <a:ext cx="657000" cy="81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7740720" y="5157720"/>
            <a:ext cx="9856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31264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bä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ch Gebäudekategorie, Bauperiode, Heizungs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nzahl Wohnungen, Anzahl Geschosse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ohn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ch Anzahl Zimmer, Fläche, Miet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ohnverhältnisse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Wohneigentums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Indikatoren und Kennzahlen der Wohnraumversorgung wie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ohndichte, Belegungsdichte, Fläche pro Bewohner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Nutzung der Wohnungen durch Privathaus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36180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utput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Kritische Erfolgsfakto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2422080"/>
            <a:ext cx="74628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ollständige, aktuelle Daten im eidg. GW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Notwendige Einsetzungen auf minimum reduzier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Auswertungen auf Gemeindestufe sicherstel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ollständige, aktuelle EWID-Zuweisung in den EW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Vollständige HH-Bildung auf Basis EWID anstreb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Berechnung der Grundgesamtheit der bewohnten Wohnungen ermöglich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Analyse der Wohnverhältnisse sicherstel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12:33Z</dcterms:created>
  <dc:creator>Michel Gentile</dc:creator>
  <dc:description/>
  <dc:language>en-US</dc:language>
  <cp:lastModifiedBy>Sonia Donzé</cp:lastModifiedBy>
  <cp:lastPrinted>2003-11-14T16:51:38Z</cp:lastPrinted>
  <dcterms:modified xsi:type="dcterms:W3CDTF">2009-10-06T05:41:04Z</dcterms:modified>
  <cp:revision>325</cp:revision>
  <dc:subject/>
  <dc:title>Workshop                 – Service de validation</dc:title>
</cp:coreProperties>
</file>